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243-DF89-4277-9F48-0F3529E4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D23-2DD7-4F93-8B87-DA9A979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B18-7CC5-469E-AF22-98231A88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53-F5CA-4222-9074-50BAF108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1DD8E-E1BA-4EC5-A65E-6D95109C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5495-E4D9-4C2E-8245-A36E66C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60ED-2D7C-45B0-8604-37FE5CD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D0522-F066-4861-804C-3733630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524CD-9CAD-45E6-8282-EB343C1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D7D4E-593D-4CB7-8E0A-5C77E54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C986-2A9F-421A-9EBD-5F7979C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86A-4831-44EA-9BD8-CCBEE06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4550-F909-44B1-B860-B364459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48D3-535F-4B33-B17A-B9A14CD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3A628-61B0-4540-BDE9-92C2FAE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4F427-9A98-4415-8AB7-5841E848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476FF-0966-45E8-BF5E-AC456C73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CA9-750F-4330-A7CA-EB1006D2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A0B-0E2F-4F55-8688-4CCD7CD6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B59-9597-452F-B822-588D20E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927-337D-4FD8-9633-677B406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BA6-47B8-4665-9272-0FD9769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435-3F40-4629-8C53-2EE8EED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ABA-FE37-464B-AA43-5D93D6B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F79-4624-4098-9EA1-4B3E258F31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F7F-9D36-454F-8097-E7ABA5016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Henry_Hudson_s_Explorations.as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Hudson Riv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, Davon Brown, Passion Brooks, Jamya Whitsey, and Keirston Spiew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Amsterd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624  Dutch settlers began  building  the town of  New Amsterd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is spot the Dutch could  control  trade on the Hudson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ocation helped New Amsterdam become the biggest and most Important Dutch sette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Rectangle 23" descr=""/>
          <p:cNvPicPr/>
          <p:nvPr/>
        </p:nvPicPr>
        <p:blipFill>
          <a:blip r:embed="rId1"/>
          <a:stretch/>
        </p:blipFill>
        <p:spPr>
          <a:xfrm>
            <a:off x="5079960" y="1814400"/>
            <a:ext cx="317520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dson 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nor  of  Henry  Hudson  the  river   was   later  named  Hudson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udson river  has  lots of waterfalls  and  rap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Rectangle 2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58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  of Hudson B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4" descr="HudsonBay"/>
          <p:cNvPicPr/>
          <p:nvPr/>
        </p:nvPicPr>
        <p:blipFill>
          <a:blip r:embed="rId1"/>
          <a:stretch/>
        </p:blipFill>
        <p:spPr>
          <a:xfrm>
            <a:off x="609480" y="1523880"/>
            <a:ext cx="823932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dson Valle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Rectangle 2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29596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age of the Lower Hud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Rectangle 23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1008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Amsterdam Grow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their colony grow the Dutch encouraged people from many countries to settle in New Nether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arrived from Belgium France Germany Finland Norway and many other countri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sterdam became a thriving town with a divers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ie Ti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enry_Hudson_s_Explorations.as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Rectangle 23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5146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 close Map of Hudson B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Rectangle 23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86320" cy="537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lban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Rectangle 23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00032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Hudson  Explor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Hudson explored the Hudson River in 16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3" descr=""/>
          <p:cNvPicPr/>
          <p:nvPr/>
        </p:nvPicPr>
        <p:blipFill>
          <a:blip r:embed="rId1"/>
          <a:stretch/>
        </p:blipFill>
        <p:spPr>
          <a:xfrm>
            <a:off x="800280" y="179064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muel de Champl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Navigator, born in Brouage Saintonge, on the bay  of Bis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8, Champlain founded the French Colony of Quebec on the St. Lawrence 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mplain sailed up a wide river, hoping it would prove to be Northwest Pa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3" descr="Samuel-de-champlain-s"/>
          <p:cNvPicPr/>
          <p:nvPr/>
        </p:nvPicPr>
        <p:blipFill>
          <a:blip r:embed="rId1"/>
          <a:stretch/>
        </p:blipFill>
        <p:spPr>
          <a:xfrm>
            <a:off x="1295280" y="1828800"/>
            <a:ext cx="243864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Pas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west Passage is a waterway connecting the Atlantic and Pacific Oce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rs had been searching for a Northwest Passage for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ever found the Northwest Passage because one does not ex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Champlain was the man that found the Northwest Pa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northwest-passage"/>
          <p:cNvPicPr/>
          <p:nvPr/>
        </p:nvPicPr>
        <p:blipFill>
          <a:blip r:embed="rId1"/>
          <a:stretch/>
        </p:blipFill>
        <p:spPr>
          <a:xfrm>
            <a:off x="4648320" y="2430360"/>
            <a:ext cx="4038480" cy="28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bec On St.Lawrences 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ved  to  be  a good  location  for  a                                                         colony because  millions  of  beavers lived  in  the  forests  of   this 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bec  quickly  developed  into  a  thriving  trading  ce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 traded furs  for European  goods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Rectangle 2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9894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 Hud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1609  Dutch  leaders  sent an  English         sea  captain  named  Henry Hudson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dson  sailed  up  a  wide  river, hoping it  would  prove  to  be  the  Northwest  pa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09   Henry Hudson   sailed  up  the  Hudson  River  and  claimed  the  land  for  the  Dut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In  honor of  Henry Hudson  the         river  was  later  named  Hudson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8" descr="henry-hudson"/>
          <p:cNvPicPr/>
          <p:nvPr/>
        </p:nvPicPr>
        <p:blipFill>
          <a:blip r:embed="rId1"/>
          <a:stretch/>
        </p:blipFill>
        <p:spPr>
          <a:xfrm>
            <a:off x="5562720" y="2057400"/>
            <a:ext cx="2624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Fr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 French   started  other   colonies  in North America  including town  Montr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These French colonies were called New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2009-09-04-Picture89"/>
          <p:cNvPicPr/>
          <p:nvPr/>
        </p:nvPicPr>
        <p:blipFill>
          <a:blip r:embed="rId1"/>
          <a:stretch/>
        </p:blipFill>
        <p:spPr>
          <a:xfrm>
            <a:off x="4648320" y="1727280"/>
            <a:ext cx="4038480" cy="42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Nether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tch colonies in North America became known  as  New Nether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Netherlands  is  another name  for Holland  the  country of  Du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Rectangle 23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lf Mo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laf Moon was a Bo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Hudson Sailed on the Half Mo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lf Moon was very important to Henry Hud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Rectangle 2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12444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Seal of New Nether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Rectangle 23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4290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8:47Z</dcterms:created>
  <dc:creator>student</dc:creator>
  <dc:description/>
  <dc:language>en-US</dc:language>
  <cp:lastModifiedBy>student</cp:lastModifiedBy>
  <dcterms:modified xsi:type="dcterms:W3CDTF">2010-03-01T15:26:36Z</dcterms:modified>
  <cp:revision>18</cp:revision>
  <dc:subject/>
  <dc:title>Hudson River</dc:title>
</cp:coreProperties>
</file>